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318-FC37-4413-B84E-BD7B4069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FAA-0C0E-4DC4-B7A5-B19585D3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EF1-E8E5-43A3-A889-75910D0C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CB9-9EBB-4EC5-A077-FB345A1B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6CDD-40A4-418B-A5FC-29151B65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49BA-2B7D-4B74-BDA5-172035A8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5BBB-13CA-45D9-B04C-58591082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29C6-B4B3-4541-804D-A35CC918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426E-6B16-4CB4-A30F-6A334256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DF3C-409F-4DD7-A102-77AAB799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474A-4009-4562-87E0-C05C130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33F-F34E-4FD9-A72D-0EB3E7D5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4946-7573-4CF4-A097-506EB3A2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F1A8-4BD7-4C55-AE2E-55547E47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3818-70AD-49FC-A19B-7DBE7364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2E17-0147-4848-B1C2-319ACA5E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5E26-C08E-4875-87FA-759ED4F4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411-E606-44B0-B56F-AD9598BA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506-D469-49DB-A07B-DA31B6F1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82F-D162-4CAC-9997-D7E67978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0D8-CDCD-4EEC-B20B-8C1BFFD7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E9A-4BFC-4A1B-85A3-FF33068F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B44-61BC-41AE-81A9-DB1C33E9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E02-EC8C-488C-ADFA-05425FF0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FCF0-9328-4456-83FA-516F54EF69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EE42-CA97-4C4F-A71C-FEB12C2E27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РГАНИЗАЦИ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ОНЕ ПРОМЕНЕ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ратегија управљања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00200"/>
          <a:ext cx="8763120" cy="516096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но (емпиричка) стратег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тегија моћи и прин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рмативно реедукативна стратег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птоставке о љу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су рационална би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су политичка би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су социјална бић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тпоставке о организ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 је рационално оруђ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 је политичке ар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 је социјалн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. одлучи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шћ. моћ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. конст. реа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етач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ћ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д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ац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д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д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оба см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т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. и запос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шће запосл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н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ја запосл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хват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уш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веће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пор промен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ома ви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злика у стању посматране појаве (објекта) између временске тач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0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1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рављање променама је: менаџерска пракса, наставна дисциплина, научно-истраживачка област, домен консалт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рављање променама се убраја у обавезне менаџерске компет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лога људи у променама: активна и паси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Људи чине промене у организацији, али их и до(пре)живљав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циљ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752480"/>
          <a:ext cx="8763120" cy="50421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А АДАПТАЦИЈА (ЕКСТЕРНИ МОТО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ОНИ РАЗВОЈ (ИНТЕРНИ МОТО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рха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агођавање окружењ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ој (иновирање) компет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љ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ољшање перформа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ој компет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ор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ж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ја, менаџ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ор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стерни: промене у окружењ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и: креативност, постигну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82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менаџ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сивна, мала дискре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а, велика дискре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карактеру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Дубин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кременталне, пли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адикалне, дуб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Ширин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рцијалне, у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веобухватне, ши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Брзин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волути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волутив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садржај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8080" y="1981080"/>
          <a:ext cx="7467840" cy="4156200"/>
        </p:xfrm>
        <a:graphic>
          <a:graphicData uri="http://schemas.openxmlformats.org/drawingml/2006/table">
            <a:tbl>
              <a:tblPr/>
              <a:tblGrid>
                <a:gridCol w="2286000"/>
                <a:gridCol w="2514600"/>
                <a:gridCol w="2667240"/>
              </a:tblGrid>
              <a:tr h="13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ЛНЕ, ТВРДЕ КОМПОНЕН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ФОРМАЛНЕ, МЕКЕ КОМПОНЕН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34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КЕ ВАРИЈАБЛЕ: СИСТЕМИ И СТРУК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АЈН: Организациона структура,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АШАЊЕ: Култура, неформалне групе, структура моћ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КЕ ВАРИЈАБЛЕ: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ОВНИ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ПЕРСОНАЛНИ ПРОЦЕСИ: групни процеси, вођство, конфликти, политички процеси, комуни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осталим критеријуми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Детерминиса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понт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лан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нтиципатив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актив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ff"/>
                </a:solidFill>
                <a:latin typeface="Arial"/>
              </a:rPr>
              <a:t>Ни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једина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Гру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ганиз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ласификација промена према стилу вође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1600200"/>
          <a:ext cx="8534520" cy="5029200"/>
        </p:xfrm>
        <a:graphic>
          <a:graphicData uri="http://schemas.openxmlformats.org/drawingml/2006/table">
            <a:tbl>
              <a:tblPr/>
              <a:tblGrid>
                <a:gridCol w="2362320"/>
                <a:gridCol w="3124080"/>
                <a:gridCol w="30481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РЕКТИ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РТИЦИПАТИ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ац про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д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зго на г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лид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зионар и план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ор, мотиватор, фацилит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запосле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ршиоц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ори и извршио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држа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ки и формални: структура, системи, пословни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намички и неформални: култура и интерперсонални проце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ку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у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га консултан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спе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цилитат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орије управљања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ганизациони разв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тратешке промене организације или организациона трансформ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ституционална теорија про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опадање (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cline)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мањивање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downsizing)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 заокрет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turnr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Животни циклус орган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прављање укупним квалитето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QM – Total Quality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ганизационо у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орије управљања променам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Теорије континуалних адаптивних про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мене кроз импров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мене у условима неизве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Логички инкрементал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Теорија популационе еколо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еинжењеринг пословних процес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usiness Process Reengineering – BP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10T22:30:48Z</dcterms:modified>
  <cp:revision>191</cp:revision>
  <dc:subject/>
  <dc:title>Soft and Hard Skills Development: A Current Situation in Serbian Companies</dc:title>
</cp:coreProperties>
</file>